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5E0F-D435-45AB-A5BB-1497EE55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F188-4B0C-4F61-9F60-11B984C8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7D9-1FD2-4C26-B0E9-F88FD60F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1D0D-65D3-45F9-B667-AFD9AFBF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EB49-B056-4D47-A9B4-156D4321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F420-8C78-4E51-AAE1-F0EE501D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6EA5-387E-4FF0-9C1F-5BF3144A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DEC-6333-4683-A625-F7C25C6C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CCF1-CB67-48FC-9B21-D1AB031B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3282-BE3D-4EB1-8551-B57CF2C5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3A67-ADAA-471A-A254-A38A3961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CA1C-EE46-41AF-97A5-ACC0FBEC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DD66-C166-4562-A268-50DE1CD4832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68360" y="549360"/>
            <a:ext cx="820728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Persuasive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main requirements of the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persuasive essay are that it will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arry a sense of conviction, commitment or belief by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liberate use of to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ke use of persuasive techniques, such as manipulating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formation, claiming necessity/exclusivity, flattering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mploying technical jargon/rhetoric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611280" y="4581360"/>
            <a:ext cx="7561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Discuss what is meant by each of the techniques abo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684360" y="333360"/>
            <a:ext cx="755964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Read the article you have been given, and discuss it in pairs, highlighting the use of persuasive techniqu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Comic Sans MS"/>
              </a:rPr>
              <a:t>Join with another pair, and compare your id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4.bp.blogspot.com/_is5as3vHFSk/TCcvQr10B4I/AAAAAAAAAAw/OwZzet_6z6c/s400/homework+alert.gif"/>
          <p:cNvPicPr/>
          <p:nvPr/>
        </p:nvPicPr>
        <p:blipFill>
          <a:blip r:embed="rId1"/>
          <a:stretch/>
        </p:blipFill>
        <p:spPr>
          <a:xfrm>
            <a:off x="611280" y="3068640"/>
            <a:ext cx="1235160" cy="113652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5" descr=""/>
          <p:cNvPicPr/>
          <p:nvPr/>
        </p:nvPicPr>
        <p:blipFill>
          <a:blip r:embed="rId2"/>
          <a:stretch/>
        </p:blipFill>
        <p:spPr>
          <a:xfrm>
            <a:off x="2273400" y="3108240"/>
            <a:ext cx="6535800" cy="1055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nabokov.typepad.com/.a/6a00e54f81710d883301543452829f970c-450wi"/>
          <p:cNvPicPr/>
          <p:nvPr/>
        </p:nvPicPr>
        <p:blipFill>
          <a:blip r:embed="rId3"/>
          <a:stretch/>
        </p:blipFill>
        <p:spPr>
          <a:xfrm>
            <a:off x="0" y="4653000"/>
            <a:ext cx="2509920" cy="555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www.thelondondailynews.com/images/guardian%20logo.jpg"/>
          <p:cNvPicPr/>
          <p:nvPr/>
        </p:nvPicPr>
        <p:blipFill>
          <a:blip r:embed="rId4"/>
          <a:stretch/>
        </p:blipFill>
        <p:spPr>
          <a:xfrm>
            <a:off x="6300720" y="5445000"/>
            <a:ext cx="2627280" cy="462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://www.canongate.tv/media/wysiwyg/TheIndependentMasthead1.jpg"/>
          <p:cNvPicPr/>
          <p:nvPr/>
        </p:nvPicPr>
        <p:blipFill>
          <a:blip r:embed="rId5"/>
          <a:stretch/>
        </p:blipFill>
        <p:spPr>
          <a:xfrm>
            <a:off x="4859280" y="4508640"/>
            <a:ext cx="2895480" cy="85248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10"/>
          <p:cNvSpPr/>
          <p:nvPr/>
        </p:nvSpPr>
        <p:spPr>
          <a:xfrm>
            <a:off x="135000" y="-347760"/>
            <a:ext cx="2057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2" descr="http://www.sfe.org.uk/media/resources/thescotsman.gif"/>
          <p:cNvPicPr/>
          <p:nvPr/>
        </p:nvPicPr>
        <p:blipFill>
          <a:blip r:embed="rId6"/>
          <a:stretch/>
        </p:blipFill>
        <p:spPr>
          <a:xfrm>
            <a:off x="324000" y="6021360"/>
            <a:ext cx="3504960" cy="64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http://s3.mediauk.com.s3.amazonaws.com/logos/50/13722.png"/>
          <p:cNvPicPr/>
          <p:nvPr/>
        </p:nvPicPr>
        <p:blipFill>
          <a:blip r:embed="rId7"/>
          <a:stretch/>
        </p:blipFill>
        <p:spPr>
          <a:xfrm>
            <a:off x="4788000" y="6165720"/>
            <a:ext cx="303840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http://watchhousecafe.co.uk/wp-content/uploads/2011/08/the-times-logo.gif"/>
          <p:cNvPicPr/>
          <p:nvPr/>
        </p:nvPicPr>
        <p:blipFill>
          <a:blip r:embed="rId8"/>
          <a:stretch/>
        </p:blipFill>
        <p:spPr>
          <a:xfrm>
            <a:off x="1403280" y="5084640"/>
            <a:ext cx="36068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20:15:30Z</dcterms:created>
  <dc:creator>Ellie Griffiths</dc:creator>
  <dc:description/>
  <dc:language>en-US</dc:language>
  <cp:lastModifiedBy>Ellie Griffiths</cp:lastModifiedBy>
  <dcterms:modified xsi:type="dcterms:W3CDTF">2011-08-29T20:35:11Z</dcterms:modified>
  <cp:revision>2</cp:revision>
  <dc:subject/>
  <dc:title>Slide 1</dc:title>
</cp:coreProperties>
</file>